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401-A383-498E-B099-AB783485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C74-BAEE-4FF7-B257-1C56D2FF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A13-9835-4985-B023-652D4707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705-1F1E-4302-B50C-807C514C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119-C5C3-4F7C-9A5D-C554B0F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F54-74A6-438B-8D9B-8AE85361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252-8A2B-498C-8726-48121865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350-6629-4816-9C1A-2AFB9933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D9D-E573-454D-B900-5DA9CE55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10D-9C71-4CBA-89BF-2E955EBE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FBF-491F-4066-BC79-01A932F0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0AF-0275-45B1-B3B9-1D32C523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4356-5342-4C01-9A64-D32E8024BFB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s e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le televiziunii (inserati sig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ele canal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ipurile de programe difuzate de canalul ales (A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! Nu enum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umele emisiunilo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er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un tip de emisiune (ex: stir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e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oate emisiunile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ri (sportive, meteo, culturale) pe care programul ales le prez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teva informatii gener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tractive despre tipul de emisiune prezentat mai 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lt tip de emisiuni difuzate (ex. seria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umele emisiunil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ep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pl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 pentru fiecare tip de emisiune difuz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p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 formatul de mai 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 imagine la alegere (prezentatori TV, actori ai unui serial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une (emisiunea cea mai interesanta de pe postul respect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eti pe scurt emisiunea care v-a atras atentia inserand o secventa filmata din acea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ce postul tv respectiv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 modu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care postul tv ales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lu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 zi cu z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unsul din perspecti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ţ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i limbii franc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15T15:49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